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2CE-42D5-4229-8F4A-9544D139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C76-07CF-4C94-8163-4BC0A0C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BF8-0DB5-4058-AAE8-BE6B7F8C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1F0-2204-4625-8D37-3C278636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DEA-5DEB-4969-8246-FADF0F99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D6E-8BF4-4CAF-907C-DD686929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EC0-7435-4E39-8212-DFDD0248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68F-C261-4F40-9A5A-957E0D6F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BD3-3D63-45FB-9EC1-8A5BEF4A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B9A-9514-4B53-B696-44B2F32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47D-D251-4355-BAF8-32B74AD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929-6B78-43CF-A5DD-B50F547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1EBA-72EB-4EC1-9730-B714CC55B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8"/>
          <p:cNvSpPr/>
          <p:nvPr/>
        </p:nvSpPr>
        <p:spPr>
          <a:xfrm>
            <a:off x="395280" y="260280"/>
            <a:ext cx="8497800" cy="609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40388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1483920"/>
            <a:ext cx="3168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андрей.андрей-ПК\Desktop\nadejdina.jpg"/>
          <p:cNvPicPr/>
          <p:nvPr/>
        </p:nvPicPr>
        <p:blipFill>
          <a:blip r:embed="rId1"/>
          <a:stretch/>
        </p:blipFill>
        <p:spPr>
          <a:xfrm>
            <a:off x="144360" y="285840"/>
            <a:ext cx="87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готовить пересказ любой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ть полезные советы об использовании  лука как  лечебного  сред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ть загадки, пословиц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оворки про л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:\Users\admin\Desktop\0_5075c_71780bc6_XXXL.jpg"/>
          <p:cNvPicPr/>
          <p:nvPr/>
        </p:nvPicPr>
        <p:blipFill>
          <a:blip r:embed="rId1"/>
          <a:stretch/>
        </p:blipFill>
        <p:spPr>
          <a:xfrm>
            <a:off x="5940360" y="2890800"/>
            <a:ext cx="30243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324000" y="285840"/>
            <a:ext cx="8589960" cy="624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35120" y="4762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Цели: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4360" y="1484280"/>
            <a:ext cx="7459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изучить целебные свойства лука;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выяснить, от каких недугов помогает это растение;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показать значимость растения для здоровья человек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" name="Picture 6" descr="C:\Users\admin\Desktop\0_5075c_71780bc6_XXXL.jpg"/>
          <p:cNvPicPr/>
          <p:nvPr/>
        </p:nvPicPr>
        <p:blipFill>
          <a:blip r:embed="rId1"/>
          <a:stretch/>
        </p:blipFill>
        <p:spPr>
          <a:xfrm>
            <a:off x="6157800" y="2781360"/>
            <a:ext cx="31147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95640" y="549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итай правиль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уп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у л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ка- бат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лен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андрей.андрей-ПК\Desktop\c54c746245fb92fcc6351a5e0d8a3e57ce7cde52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9360" y="1084320"/>
            <a:ext cx="9134640" cy="5734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35280" y="1557360"/>
            <a:ext cx="53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убивает болезнетворные микр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берегает от простудных заболе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повышает иммунитет орган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улучшает пищева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чищает кровь и  улучшает работу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47840" y="322200"/>
            <a:ext cx="376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Лук-лекарь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" name="Picture 13" descr="13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4105440"/>
          </a:xfrm>
          <a:prstGeom prst="rect">
            <a:avLst/>
          </a:prstGeom>
          <a:ln w="57240">
            <a:solidFill>
              <a:srgbClr val="99ff33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260280"/>
            <a:ext cx="8497800" cy="609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C:\Users\андрей.андрей-ПК\Desktop\20152005184914-1024x768.jpg"/>
          <p:cNvPicPr/>
          <p:nvPr/>
        </p:nvPicPr>
        <p:blipFill>
          <a:blip r:embed="rId1"/>
          <a:stretch/>
        </p:blipFill>
        <p:spPr>
          <a:xfrm>
            <a:off x="360360" y="260280"/>
            <a:ext cx="85694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404640"/>
            <a:ext cx="8497800" cy="6239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900000" y="928800"/>
            <a:ext cx="6769080" cy="18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83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255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uFillTx/>
                <a:latin typeface="Arial"/>
              </a:rPr>
              <a:t> </a:t>
            </a:r>
            <a:endParaRPr b="1" lang="en-US" sz="1800" spc="1" strike="noStrike" u="sng">
              <a:ln w="25560">
                <a:solidFill>
                  <a:srgbClr val="ffff00"/>
                </a:solidFill>
                <a:miter/>
              </a:ln>
              <a:solidFill>
                <a:srgbClr val="339966"/>
              </a:solidFill>
              <a:uFillTx/>
              <a:latin typeface="Arial"/>
              <a:ea typeface="Arial"/>
            </a:endParaRPr>
          </a:p>
        </p:txBody>
      </p:sp>
      <p:pic>
        <p:nvPicPr>
          <p:cNvPr id="61" name="Picture 5" descr="C:\Users\андрей.андрей-ПК\Desktop\vyrashhivanie-luka-batuna-iz-semyan-na-podokonnike.jpg"/>
          <p:cNvPicPr/>
          <p:nvPr/>
        </p:nvPicPr>
        <p:blipFill>
          <a:blip r:embed="rId1"/>
          <a:stretch/>
        </p:blipFill>
        <p:spPr>
          <a:xfrm>
            <a:off x="324000" y="404640"/>
            <a:ext cx="8497800" cy="6239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142920" y="285840"/>
            <a:ext cx="8497800" cy="609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059280" y="4869000"/>
            <a:ext cx="54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" name="Picture 5" descr="C:\Users\андрей.андрей-ПК\Desktop\mnogoyarusniy_luk-e1509298210975-768x526.jpg"/>
          <p:cNvPicPr/>
          <p:nvPr/>
        </p:nvPicPr>
        <p:blipFill>
          <a:blip r:embed="rId1"/>
          <a:stretch/>
        </p:blipFill>
        <p:spPr>
          <a:xfrm>
            <a:off x="142920" y="285840"/>
            <a:ext cx="8678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195120" y="428760"/>
            <a:ext cx="8840880" cy="609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" name="WordArt 13" descr=""/>
          <p:cNvPicPr/>
          <p:nvPr/>
        </p:nvPicPr>
        <p:blipFill>
          <a:blip r:embed="rId1"/>
          <a:stretch/>
        </p:blipFill>
        <p:spPr>
          <a:xfrm>
            <a:off x="19080" y="28116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4143240" y="3429000"/>
            <a:ext cx="46436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Если я буду…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Теперь я 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Я выяснил(а)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Эта статья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428920" y="1633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374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45:00Z</dcterms:created>
  <dc:creator>IT</dc:creator>
  <dc:description/>
  <dc:language>en-US</dc:language>
  <cp:lastModifiedBy>андрей</cp:lastModifiedBy>
  <dcterms:modified xsi:type="dcterms:W3CDTF">2018-04-29T18:14:37Z</dcterms:modified>
  <cp:revision>433</cp:revision>
  <dc:subject/>
  <dc:title>Лук</dc:title>
</cp:coreProperties>
</file>